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129-5C32-4D01-91D5-D52C08E7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B13-A003-4C74-AAC1-78C2F322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6E4-9DB2-4CA2-9C68-0B73217C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86E-59F5-4D45-B769-C67E24A4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77F6-2195-4706-8589-34BDDEA3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E172-453F-4D6F-8B46-D4973BC7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02A7-88A1-447A-9F9D-3041D997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C35C-CD73-4A56-8D0A-DF9985B9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33BD-5778-4DAF-AB28-F059BC2F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12C-1B20-417A-B1FC-00B03050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07E0-73A4-4330-B056-50DA43AB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894-A7F2-4B62-9DCD-D54A508D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8E2A-50B6-44AE-8583-91E6A37C0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9880" y="3352680"/>
            <a:ext cx="609480" cy="304560"/>
            <a:chOff x="3809880" y="3352680"/>
            <a:chExt cx="609480" cy="304560"/>
          </a:xfrm>
        </p:grpSpPr>
        <p:sp>
          <p:nvSpPr>
            <p:cNvPr id="42" name=""/>
            <p:cNvSpPr/>
            <p:nvPr/>
          </p:nvSpPr>
          <p:spPr>
            <a:xfrm>
              <a:off x="3809880" y="3352680"/>
              <a:ext cx="6094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809880" y="3352680"/>
              <a:ext cx="60948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09880" y="350496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3809880" y="3352680"/>
              <a:ext cx="6094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4876920" y="2590920"/>
            <a:ext cx="304560" cy="457200"/>
            <a:chOff x="4876920" y="2590920"/>
            <a:chExt cx="304560" cy="457200"/>
          </a:xfrm>
        </p:grpSpPr>
        <p:sp>
          <p:nvSpPr>
            <p:cNvPr id="47" name=""/>
            <p:cNvSpPr/>
            <p:nvPr/>
          </p:nvSpPr>
          <p:spPr>
            <a:xfrm flipH="1">
              <a:off x="4876920" y="2590920"/>
              <a:ext cx="30456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5400000">
              <a:off x="4800600" y="2667240"/>
              <a:ext cx="45720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29200" y="25909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76920" y="2590920"/>
              <a:ext cx="30456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114800" y="2819520"/>
            <a:ext cx="1828800" cy="1371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638680" y="3352680"/>
            <a:ext cx="609480" cy="304560"/>
            <a:chOff x="5638680" y="3352680"/>
            <a:chExt cx="609480" cy="304560"/>
          </a:xfrm>
        </p:grpSpPr>
        <p:sp>
          <p:nvSpPr>
            <p:cNvPr id="53" name=""/>
            <p:cNvSpPr/>
            <p:nvPr/>
          </p:nvSpPr>
          <p:spPr>
            <a:xfrm>
              <a:off x="5638680" y="3352680"/>
              <a:ext cx="6094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38680" y="3352680"/>
              <a:ext cx="60948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38680" y="350496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5638680" y="3352680"/>
              <a:ext cx="6094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884480" y="419112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243828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243828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2514600"/>
            <a:ext cx="479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514600"/>
            <a:ext cx="479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3124080"/>
            <a:ext cx="228600" cy="83844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72" y="76"/>
                  <a:pt x="0" y="152"/>
                  <a:pt x="0" y="240"/>
                </a:cubicBezTo>
                <a:cubicBezTo>
                  <a:pt x="0" y="328"/>
                  <a:pt x="72" y="428"/>
                  <a:pt x="144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323760" y="3124080"/>
            <a:ext cx="228600" cy="83844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72" y="76"/>
                  <a:pt x="0" y="152"/>
                  <a:pt x="0" y="240"/>
                </a:cubicBezTo>
                <a:cubicBezTo>
                  <a:pt x="0" y="328"/>
                  <a:pt x="72" y="428"/>
                  <a:pt x="144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952880" y="190476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72" y="76"/>
                  <a:pt x="0" y="152"/>
                  <a:pt x="0" y="240"/>
                </a:cubicBezTo>
                <a:cubicBezTo>
                  <a:pt x="0" y="328"/>
                  <a:pt x="72" y="428"/>
                  <a:pt x="144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1828800"/>
            <a:ext cx="182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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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3080" y="335916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335916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29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3T13:25:19Z</dcterms:created>
  <dc:creator>QT</dc:creator>
  <dc:description/>
  <dc:language>en-US</dc:language>
  <cp:lastModifiedBy>QT</cp:lastModifiedBy>
  <cp:lastPrinted>2001-07-13T14:17:05Z</cp:lastPrinted>
  <dcterms:modified xsi:type="dcterms:W3CDTF">2001-07-23T13:32:19Z</dcterms:modified>
  <cp:revision>3</cp:revision>
  <dc:subject/>
  <dc:title>No Slide Title</dc:title>
</cp:coreProperties>
</file>